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2A3-3148-4B06-A36B-5A3ACAE7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7C0-D5D1-48DA-AA83-EDC340B2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5A5-9E32-412F-A564-3D324E54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5AD-CF02-4114-B546-8392B257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1732-E36B-4204-A534-363FF16A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C918-656A-49FE-A912-403BDA4B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7C67-A13D-4F0A-9CFC-D4A1C4EA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C495-929D-468A-BBE5-5AAA67EF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7D28-2BEB-40F3-A1FB-9CF193D6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A25B-523A-40FB-BBEF-E6691621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85F6-A7F2-4760-9672-611C9611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BAF-D49E-4688-8566-5B14D02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21A4-D234-4F99-A1B9-9A28C00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F8E6-2417-4608-8AF6-877E6A68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2B01-1446-4CB4-9811-7C33E73E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D0E3-56B1-4CF0-A364-45C767DA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433A-DE83-4D0D-946E-F6A8E071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76D-09F2-4C79-89CB-D361B7C7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529-1860-49B3-B254-D9AF99CF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7E2-394F-4A90-BBE9-B7CD0691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BEF-E0FB-46BF-8ACB-FE0E8C97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EFF-C3B0-4040-8EA8-0325F6A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3A0-8E2A-4488-B450-D12766CB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045-B8C4-4760-88C7-0E89674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3619-C893-4677-8A2D-A415D55F12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CF2-2809-493B-BF51-862617AB1D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ИДЕРСТВО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Трансформационо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које утиче на чланове да постижу екстраординарне перформансе у условима иновација и про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валитети трансформационог лидер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Визија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ма идеје и смисао за управљ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Х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имболизам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дентификује “хероје”, даје посебне награде, промов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Унапређење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маже развој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Шта је лидерство?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роцес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инспирис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ругих д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појачају напор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остваривању заједничких циље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дери треба да имају и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оћ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а би утицали на дру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оћ ј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способн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а с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утич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а друг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да рад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но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што ми жели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моћ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1905120"/>
          <a:ext cx="8610480" cy="39621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Моћ позициј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Лична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Моћ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грађивањ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кспертна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Моћ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си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ферентна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егитимна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Лидер </a:t>
            </a:r>
            <a:r>
              <a:rPr b="1" lang="en-US" sz="4400" spc="-1" strike="noStrike">
                <a:solidFill>
                  <a:srgbClr val="ff7547"/>
                </a:solidFill>
                <a:latin typeface="Arial"/>
              </a:rPr>
              <a:t>vs. 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наџер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1523880"/>
          <a:ext cx="6095880" cy="49881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аџ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рочно орјентис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горочно орјентис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рж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на мо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претативна мо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а, организује, контроли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шља и води про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води визи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ира визи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 к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 зашто и зашто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 ствари на прави на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 праве ств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љ: ефикас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љ: ефектив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ват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жи сли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жи разл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 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ј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ствена ли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инципи визионарског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Бити пионир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– подстицати иновације и подржавати људе са иде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Бити ентузијаста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спирисати друге кроз лични ентузијазам да учествују у заједничкој ви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Помагати друге да делују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ити идол тима и подржати напор и таленте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Дати пример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– обезбедити конзистентан модел улоге како други могу и треба да 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Прославити успех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– уносити емоцију у радном место (“радити срцем колико и главом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1523880"/>
          <a:ext cx="8610480" cy="5070600"/>
        </p:xfrm>
        <a:graphic>
          <a:graphicData uri="http://schemas.openxmlformats.org/drawingml/2006/table">
            <a:tbl>
              <a:tblPr/>
              <a:tblGrid>
                <a:gridCol w="2347920"/>
                <a:gridCol w="782640"/>
                <a:gridCol w="782640"/>
                <a:gridCol w="784080"/>
                <a:gridCol w="782640"/>
                <a:gridCol w="782640"/>
                <a:gridCol w="782640"/>
                <a:gridCol w="782640"/>
                <a:gridCol w="782640"/>
              </a:tblGrid>
              <a:tr h="5245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длеров модел лиде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с лидер-ч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ост зад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ћ пози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а ситу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вис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н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ферирани </a:t>
                      </a:r>
                      <a:r>
                        <a:rPr b="1" lang="sr-R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дерски ст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 орјентисан према задатаку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ду, производњи, услуга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 орјентисан према релацијама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ема људи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167" name="Straight Arrow Connector 6"/>
          <p:cNvCxnSpPr/>
          <p:nvPr/>
        </p:nvCxnSpPr>
        <p:spPr>
          <a:xfrm>
            <a:off x="4495320" y="4419360"/>
            <a:ext cx="2591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1542960"/>
          <a:ext cx="7925040" cy="53150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592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ерси – Бланшаров модел лиде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ечна спремност следбеника да извршавају зада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и и желе (или су поузда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и, али не желе (или су несигур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у способни, али желе (или су поузда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у способни и не желе (или су несигур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легирање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група доноси и узима одговорност за одлуке; стил слабог понашања и слабих ре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ртиципација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наглашавање учешћа идеја и партиципативних одлука; стил високих интера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беђивање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објашњавање одлука и обезбеђивање услова; стил високе орјентације према одн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општавање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давање специфичних директива и контрола перфоманси; стил слабе интерак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Up-Down Arrow 9"/>
          <p:cNvSpPr/>
          <p:nvPr/>
        </p:nvSpPr>
        <p:spPr>
          <a:xfrm rot="16200000">
            <a:off x="2317680" y="2178000"/>
            <a:ext cx="164880" cy="990360"/>
          </a:xfrm>
          <a:prstGeom prst="upDownArrow">
            <a:avLst>
              <a:gd name="adj1" fmla="val 50000"/>
              <a:gd name="adj2" fmla="val 4988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Up-Down Arrow 10"/>
          <p:cNvSpPr/>
          <p:nvPr/>
        </p:nvSpPr>
        <p:spPr>
          <a:xfrm rot="16200000">
            <a:off x="6844320" y="2147040"/>
            <a:ext cx="179280" cy="1066680"/>
          </a:xfrm>
          <a:prstGeom prst="upDownArrow">
            <a:avLst>
              <a:gd name="adj1" fmla="val 50000"/>
              <a:gd name="adj2" fmla="val 5016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Хаусов модел лидерства (“пут – циљ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спешан лидер је способан да реши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ситуационе фактор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ји запосленима стоје на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пут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да постигну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циљев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4 стила лидерст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засновано на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директ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засн. на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подршци чланова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засновано на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остваривању за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Партиципативно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Врум - Јаго модел лид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 стил бира у складу са проблемима које реш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3 стила лидерст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Ауторитаран 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Консултативан 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Групни 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2T23:36:23Z</dcterms:modified>
  <cp:revision>181</cp:revision>
  <dc:subject/>
  <dc:title>Soft and Hard Skills Development: A Current Situation in Serbian Companies</dc:title>
</cp:coreProperties>
</file>